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354E-604C-44CE-BB8C-CCFDBB3F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1DFF-E79B-487D-AB71-EBB942C8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7012-7970-4C41-B6DA-1B9FAA0C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78AF-CBA4-477B-B84F-E40A8E8F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D8C6-0C1D-4619-BD9F-2B0FA975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AA2C-DF6D-4B29-87BC-C06A6AD7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9D72-7A05-4BFB-9877-001675F2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5D0E-4C50-4735-82A9-A6BC4B5A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BD09-E072-4707-A6C4-A68E5487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9EBF-937C-4F71-9DF4-A255310C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4D08-BD24-4790-9A2D-7B27E7BD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D665-C4EC-4FFE-8E72-605BA6C9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8E87-209F-415E-B4DA-2169D86D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B4E0-C186-4FDF-92AA-978A6154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D3B4-9CEB-46E4-AB7C-FF30A871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7DFC-4E0C-4F6E-A84E-ED80D275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09EA-641A-40FA-A10D-9F856841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3D70-21FA-4518-924F-01B52575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0BA9C-AB6C-46FB-9200-98128347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E75DF-8654-481A-9351-AAF2D978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C134-0271-4229-940D-6ABCF76B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FDD18-BCFD-40C7-8F3E-76FBAB22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D314-BFBA-4C38-972D-DF386199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DEAE-D176-45F7-93D5-E4DDD6A7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5E65-5FC0-4636-8F15-4152604ED8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0AEB-DC47-448E-A244-9B9BEAE427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iding and Showing Object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5181480"/>
            <a:ext cx="2133360" cy="609840"/>
          </a:xfrm>
          <a:custGeom>
            <a:avLst/>
            <a:gdLst>
              <a:gd name="textAreaLeft" fmla="*/ 39240 w 2133360"/>
              <a:gd name="textAreaRight" fmla="*/ 2094120 w 2133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5530" h="21600">
                <a:moveTo>
                  <a:pt x="0" y="0"/>
                </a:moveTo>
                <a:lnTo>
                  <a:pt x="75530" y="0"/>
                </a:lnTo>
                <a:lnTo>
                  <a:pt x="75530" y="21600"/>
                </a:lnTo>
                <a:lnTo>
                  <a:pt x="0" y="21600"/>
                </a:lnTo>
                <a:close/>
              </a:path>
              <a:path fill="lightenLess" w="75530" h="21600">
                <a:moveTo>
                  <a:pt x="0" y="0"/>
                </a:moveTo>
                <a:lnTo>
                  <a:pt x="75530" y="0"/>
                </a:lnTo>
                <a:lnTo>
                  <a:pt x="74130" y="1400"/>
                </a:lnTo>
                <a:lnTo>
                  <a:pt x="1400" y="1400"/>
                </a:lnTo>
                <a:close/>
              </a:path>
              <a:path fill="darken" w="75530" h="21600">
                <a:moveTo>
                  <a:pt x="75530" y="0"/>
                </a:moveTo>
                <a:lnTo>
                  <a:pt x="75530" y="21600"/>
                </a:lnTo>
                <a:lnTo>
                  <a:pt x="74130" y="20200"/>
                </a:lnTo>
                <a:lnTo>
                  <a:pt x="74130" y="1400"/>
                </a:lnTo>
                <a:close/>
              </a:path>
              <a:path fill="darkenLess" w="75530" h="21600">
                <a:moveTo>
                  <a:pt x="7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30" y="20200"/>
                </a:lnTo>
                <a:close/>
              </a:path>
              <a:path fill="lighten" w="7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ss 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brout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980280" y="1636560"/>
            <a:ext cx="58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initializ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1). Visible =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2). Visible =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3040" y="2971800"/>
            <a:ext cx="7681680" cy="916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rst, we have to hide the two shapes that we want to show later. You c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e that both shapes are on slide number 3.  The shapes are the first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cond object that we placed on the scre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9920" y="4227480"/>
            <a:ext cx="575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show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1). Visible =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2). Visible =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80640" y="559908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y changing the word False to True, shapes will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 hidden="1"/>
          <p:cNvSpPr/>
          <p:nvPr/>
        </p:nvSpPr>
        <p:spPr>
          <a:xfrm>
            <a:off x="990720" y="1219320"/>
            <a:ext cx="2514600" cy="2514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 hidden="1"/>
          <p:cNvSpPr/>
          <p:nvPr/>
        </p:nvSpPr>
        <p:spPr>
          <a:xfrm>
            <a:off x="5334120" y="1676520"/>
            <a:ext cx="2438280" cy="2133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762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3160" y="6462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066680"/>
            <a:ext cx="6858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53040" y="569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257800"/>
            <a:ext cx="1676160" cy="685800"/>
          </a:xfrm>
          <a:custGeom>
            <a:avLst/>
            <a:gdLst>
              <a:gd name="textAreaLeft" fmla="*/ 44280 w 1676160"/>
              <a:gd name="textAreaRight" fmla="*/ 1631880 w 1676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743200" y="4876560"/>
            <a:ext cx="8380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45360" y="45324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 the macro to initializ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486400"/>
            <a:ext cx="1295640" cy="609480"/>
          </a:xfrm>
          <a:custGeom>
            <a:avLst/>
            <a:gdLst>
              <a:gd name="textAreaLeft" fmla="*/ 39240 w 1295640"/>
              <a:gd name="textAreaRight" fmla="*/ 1256400 w 12956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5903" h="21600">
                <a:moveTo>
                  <a:pt x="0" y="0"/>
                </a:moveTo>
                <a:lnTo>
                  <a:pt x="45903" y="0"/>
                </a:lnTo>
                <a:lnTo>
                  <a:pt x="45903" y="21600"/>
                </a:lnTo>
                <a:lnTo>
                  <a:pt x="0" y="21600"/>
                </a:lnTo>
                <a:close/>
              </a:path>
              <a:path fill="lightenLess" w="45903" h="21600">
                <a:moveTo>
                  <a:pt x="0" y="0"/>
                </a:moveTo>
                <a:lnTo>
                  <a:pt x="45903" y="0"/>
                </a:lnTo>
                <a:lnTo>
                  <a:pt x="44503" y="1400"/>
                </a:lnTo>
                <a:lnTo>
                  <a:pt x="1400" y="1400"/>
                </a:lnTo>
                <a:close/>
              </a:path>
              <a:path fill="darken" w="45903" h="21600">
                <a:moveTo>
                  <a:pt x="45903" y="0"/>
                </a:moveTo>
                <a:lnTo>
                  <a:pt x="45903" y="21600"/>
                </a:lnTo>
                <a:lnTo>
                  <a:pt x="44503" y="20200"/>
                </a:lnTo>
                <a:lnTo>
                  <a:pt x="44503" y="1400"/>
                </a:lnTo>
                <a:close/>
              </a:path>
              <a:path fill="darkenLess" w="45903" h="21600">
                <a:moveTo>
                  <a:pt x="4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3" y="20200"/>
                </a:lnTo>
                <a:close/>
              </a:path>
              <a:path fill="lighten" w="4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15000" y="5181480"/>
            <a:ext cx="9907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68360" y="460836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 macro to Sh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10:24Z</dcterms:created>
  <dc:creator>jnatale</dc:creator>
  <dc:description/>
  <dc:language>en-US</dc:language>
  <cp:lastModifiedBy>jnatale</cp:lastModifiedBy>
  <dcterms:modified xsi:type="dcterms:W3CDTF">2009-02-19T18:12:11Z</dcterms:modified>
  <cp:revision>3</cp:revision>
  <dc:subject/>
  <dc:title>Hiding and Showing Objects</dc:title>
</cp:coreProperties>
</file>